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49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25.png" ContentType="image/png"/>
  <Override PartName="/ppt/media/image11.jpeg" ContentType="image/jpeg"/>
  <Override PartName="/ppt/media/image17.png" ContentType="image/png"/>
  <Override PartName="/ppt/media/image20.png" ContentType="image/png"/>
  <Override PartName="/ppt/media/image57.png" ContentType="image/png"/>
  <Override PartName="/ppt/media/image58.png" ContentType="image/png"/>
  <Override PartName="/ppt/media/image67.jpeg" ContentType="image/jpeg"/>
  <Override PartName="/ppt/media/image21.png" ContentType="image/png"/>
  <Override PartName="/ppt/media/image77.png" ContentType="image/png"/>
  <Override PartName="/ppt/media/image61.jpeg" ContentType="image/jpeg"/>
  <Override PartName="/ppt/media/image24.png" ContentType="image/png"/>
  <Override PartName="/ppt/media/image73.jpeg" ContentType="image/jpeg"/>
  <Override PartName="/ppt/media/image65.png" ContentType="image/png"/>
  <Override PartName="/ppt/media/image10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70.jpeg" ContentType="image/jpeg"/>
  <Override PartName="/ppt/media/image35.png" ContentType="image/png"/>
  <Override PartName="/ppt/media/image6.jpeg" ContentType="image/jpeg"/>
  <Override PartName="/ppt/media/image71.png" ContentType="image/png"/>
  <Override PartName="/ppt/media/image29.png" ContentType="image/png"/>
  <Override PartName="/ppt/media/image69.jpeg" ContentType="image/jpeg"/>
  <Override PartName="/ppt/media/image1.png" ContentType="image/png"/>
  <Override PartName="/ppt/media/image68.jpeg" ContentType="image/jpeg"/>
  <Override PartName="/ppt/media/image31.png" ContentType="image/png"/>
  <Override PartName="/ppt/media/image22.png" ContentType="image/png"/>
  <Override PartName="/ppt/media/image66.jpeg" ContentType="image/jpeg"/>
  <Override PartName="/ppt/media/image48.png" ContentType="image/png"/>
  <Override PartName="/ppt/media/image63.png" ContentType="image/png"/>
  <Override PartName="/ppt/media/image60.jpeg" ContentType="image/jpeg"/>
  <Override PartName="/ppt/media/image30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74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75.jpeg" ContentType="image/jpeg"/>
  <Override PartName="/ppt/media/image5.jpeg" ContentType="image/jpeg"/>
  <Override PartName="/ppt/media/image50.png" ContentType="image/png"/>
  <Override PartName="/ppt/media/image28.png" ContentType="image/png"/>
  <Override PartName="/ppt/media/image39.png" ContentType="image/png"/>
  <Override PartName="/ppt/media/image64.jpeg" ContentType="image/jpeg"/>
  <Override PartName="/ppt/media/image8.png" ContentType="image/png"/>
  <Override PartName="/ppt/media/image38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9.jpeg" ContentType="image/jpeg"/>
  <Override PartName="/ppt/media/image3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CD8E-4F9C-4CB6-9D89-9408416BAC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629D7-A8DB-475B-9A2B-46411850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E25F-1CD5-4D00-8D65-9ABA1555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269C-658A-4F48-A642-2B26305764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1D931-EC68-43E0-9290-9CA800D1C9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D495E-812D-4B6F-9072-EBB8B03C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41C31-68EC-418E-A286-4D57E8BF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41972-BF81-43F6-9BA0-50D66A98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916BC-D794-48CF-B04B-9FD52D54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E36DA-DBE3-40A1-A387-96456FFC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A3325-0887-4E26-A45B-81FF8F7F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F44F-53DB-4DC8-B55B-C3B9F892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29E08-0156-4155-B833-EC481EA8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E271F-01F0-4E7B-8DCA-8C47919E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C2EF5-4FB9-4771-9CE5-81D908CD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9379E-6163-4411-8DAF-B8006DCF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3571E-CF17-4276-A0FD-CB8270C5D7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6538-4E6B-4D56-9B27-DA6054E569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569D-DC06-4E56-8BFD-6AB3DF01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1FB7-C01B-468A-952D-E0B4F5AD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765D-2CF7-42C7-ADBE-46E0AE8E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FAC7-38C5-40B8-A274-22A4DFF0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6270-D735-4200-9D1A-07975520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DACC-D4B8-46AC-B9D2-BD45894C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F9CC-E98D-471F-80BE-6433E6E0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0EF1-06B4-472C-B1A6-7316F84F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52B9-032F-47EE-9850-7A8FB9A5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866C-5A37-4987-A858-5C96BBF1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E6E3-2571-417D-B8B3-E501AAE5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9538-7269-498A-866A-B45B2AC873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654BB-A929-44CE-96A2-F220970763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9DA3B-75E6-48A8-9E6D-1FF5A531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9923D-A26E-44F2-8F7C-96EA2BB2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BC0B-D293-4CDC-9787-71535BD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2FDC3-7DA5-47CD-94A2-B385BB77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A5ED2-4A28-490C-B97E-210F333F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44213-32EE-4657-B1B9-6BEAC2D1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92ACC-4D11-435B-9929-C9EAA05E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A66D6-AD32-41E2-BC07-2D06E3AA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98851-F6F0-4DC5-BA04-AA942CED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80B9E-C70F-4EF2-A999-047B6944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26A57-54E2-47EC-90CB-061300ED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C8751-2A4F-444B-A339-769E845689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1391E-B026-4C1D-A54B-AB43A69E35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3E9E-7378-4F8B-ACC2-E0E42C9B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C7236F-4E76-41BF-84EF-87C1D152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8BDF8-CA90-4B70-9B1D-409EB4A8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658D43-2D35-4817-A286-A655168D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3C3B7C-8841-41F1-8037-A0F57C3F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51AB97-D422-4744-800A-E8D29378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FCFB7-DB6D-42B5-A2BB-4B098A8B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7324B1-8145-4D4B-9A81-ECDE23C9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49399A-E3BF-48EF-93AC-AEC13C1B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26CCFA-7A85-4DE8-8290-75C5DC87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DBF28B-52F1-4C9A-B9C0-27184C2E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8A22-C523-4682-AB2A-CAEFFD74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E8D66A-113F-4791-8ACE-53AADECCCD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17EA1-ADBB-4F0F-A03F-221F848F8C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5C846-F5D3-48B6-95A7-883FA5AD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2AB0-3B9B-483D-AAD8-E5CAF8C0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71AF4-5506-4480-88A2-183B297B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E90E1-525F-4A8F-B7BD-2FECC1B7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89882-9E16-4CC9-8755-8DE6C906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39FC3-F3B4-4BC0-AB01-00DDCD60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7525C-6092-4A0F-B663-936092E6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DBE76-5483-4F38-9C9A-9CFE24C4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14AE-D760-4B7F-A698-F7967986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8A12-DC91-4560-BFC2-368FD21A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85C2D-E0A9-47A9-90C7-B495B597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99763-A591-4ED5-A554-3BDF61B1B3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E4628-CDC2-4634-9F49-162469BC1B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B380D-6564-4FCC-9B57-2ED1CE3B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02C55-9865-4B4D-83AE-644292A8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DE7C8-9E9C-40DC-8D84-206D8D90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BA1A8-20DA-4E08-AE27-98762AB4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EB972-61D4-457C-A60D-3A139F84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9436A-7B9A-4F03-AD1F-1F9640D7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6EB4F-0ECA-43AE-8741-6D38907F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86A9A8-05A4-404B-86C6-D2E88AE5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DB05E-8222-4122-A71B-4FDA4552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1E1EA-E513-4DF7-9DC1-BA056752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6393C-CAC9-4CC3-8A5B-C5F16329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B63B0-A46E-444F-8522-B5C1AA6586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25FED7-6841-4648-9369-85C29E38FD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82D9BD-637B-4A18-874F-3F5EF879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F35952-60EB-497B-90F1-1EB6162A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D69A38-7215-4547-BE03-C0BF39D2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E3B60E-88BF-4813-89DC-11A8A4F6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E328-7D0B-465E-A1BE-5491C78A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2AB520-B5A9-4D84-AF68-83318006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5B37DB-7027-45B9-8E76-225D32B3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00DC80-2803-402F-9AE0-8D72371D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EB2D05-49AE-49BC-9470-368B72C4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5C999D-1C48-4987-8A3B-66E49878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17E7FD-62CF-4EA6-BF89-381C383B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C26D84-3A2B-40F0-8996-E6A7DB72D3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277560" y="6420240"/>
              <a:ext cx="16995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A59360-FA0E-487A-A5E9-C03DB4B52493}" type="slidenum">
              <a:rPr b="0" lang="es-C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4abbe0"/>
              </a:gs>
              <a:gs pos="50000">
                <a:srgbClr val="007897"/>
              </a:gs>
              <a:gs pos="100000">
                <a:srgbClr val="4abbe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-3240" y="4952880"/>
            <a:ext cx="9145800" cy="1909800"/>
            <a:chOff x="-3240" y="4952880"/>
            <a:chExt cx="9145800" cy="1909800"/>
          </a:xfrm>
        </p:grpSpPr>
        <p:sp>
          <p:nvSpPr>
            <p:cNvPr id="49" name="AutoShape 3"/>
            <p:cNvSpPr/>
            <p:nvPr/>
          </p:nvSpPr>
          <p:spPr>
            <a:xfrm>
              <a:off x="1693440" y="4952880"/>
              <a:ext cx="744228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45720" y="5235480"/>
              <a:ext cx="9091800" cy="78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2880" y="4992840"/>
              <a:ext cx="9137880" cy="1869840"/>
              <a:chOff x="2880" y="4992840"/>
              <a:chExt cx="9137880" cy="1869840"/>
            </a:xfrm>
          </p:grpSpPr>
          <p:pic>
            <p:nvPicPr>
              <p:cNvPr id="52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880" y="4992840"/>
                <a:ext cx="9137880" cy="18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7"/>
              <p:cNvSpPr/>
              <p:nvPr/>
            </p:nvSpPr>
            <p:spPr>
              <a:xfrm>
                <a:off x="8640" y="500040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Picture 8" descr=""/>
            <p:cNvPicPr/>
            <p:nvPr/>
          </p:nvPicPr>
          <p:blipFill>
            <a:blip r:embed="rId3"/>
            <a:stretch/>
          </p:blipFill>
          <p:spPr>
            <a:xfrm>
              <a:off x="-3240" y="4986360"/>
              <a:ext cx="91458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269553-4B42-40A7-A083-D097F809F619}" type="slidenum">
              <a:rPr b="0" lang="es-C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1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99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5"/>
            <p:cNvSpPr/>
            <p:nvPr/>
          </p:nvSpPr>
          <p:spPr>
            <a:xfrm>
              <a:off x="277560" y="6420240"/>
              <a:ext cx="16995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5207D4-B8F6-4844-93E2-417BAD2A7537}" type="slidenum">
              <a:rPr b="0" lang="es-C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1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2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148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"/>
            <p:cNvSpPr/>
            <p:nvPr/>
          </p:nvSpPr>
          <p:spPr>
            <a:xfrm>
              <a:off x="277560" y="6420240"/>
              <a:ext cx="16995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Picture 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F95C57-9699-407E-9D8D-BDE684DBB072}" type="slidenum">
              <a:rPr b="0" lang="es-C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9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66C55F-41C0-49B1-A393-0E8DC4A4C14D}" type="slidenum">
              <a:rPr b="0" lang="es-C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1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236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5"/>
            <p:cNvSpPr/>
            <p:nvPr/>
          </p:nvSpPr>
          <p:spPr>
            <a:xfrm>
              <a:off x="277560" y="6420240"/>
              <a:ext cx="16995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8" name="Picture 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480F2B-03C2-4BA0-8CE4-BDD119A17347}" type="slidenum">
              <a:rPr b="0" lang="es-C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07E95A-07F8-495A-A652-1097D42EE226}" type="slidenum">
              <a:rPr b="0" lang="es-C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1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2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24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5"/>
            <p:cNvSpPr/>
            <p:nvPr/>
          </p:nvSpPr>
          <p:spPr>
            <a:xfrm>
              <a:off x="277560" y="6420240"/>
              <a:ext cx="16995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6" name="Picture 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7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5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6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70FD0A-6AE7-4A2B-ADDB-877C9A539C9B}" type="slidenum">
              <a:rPr b="0" lang="es-C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"/>
          <p:cNvGrpSpPr/>
          <p:nvPr/>
        </p:nvGrpSpPr>
        <p:grpSpPr>
          <a:xfrm>
            <a:off x="682560" y="1384200"/>
            <a:ext cx="8204400" cy="2211480"/>
            <a:chOff x="682560" y="1384200"/>
            <a:chExt cx="8204400" cy="2211480"/>
          </a:xfrm>
        </p:grpSpPr>
        <p:pic>
          <p:nvPicPr>
            <p:cNvPr id="371" name="Picture 2" descr=""/>
            <p:cNvPicPr/>
            <p:nvPr/>
          </p:nvPicPr>
          <p:blipFill>
            <a:blip r:embed="rId1"/>
            <a:stretch/>
          </p:blipFill>
          <p:spPr>
            <a:xfrm>
              <a:off x="682560" y="1384200"/>
              <a:ext cx="8204400" cy="22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3"/>
            <p:cNvSpPr/>
            <p:nvPr/>
          </p:nvSpPr>
          <p:spPr>
            <a:xfrm>
              <a:off x="682560" y="1384200"/>
              <a:ext cx="8204400" cy="22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Cisterna o Tan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odo tipo de carga gaseosa o líquida. Posee cierre hermético para evitar fugas o derra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2357280" y="2808360"/>
            <a:ext cx="310356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abierta para gra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carga a granel principalmente, pero no exclusivamente, puede ser cerr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2714760" y="3022560"/>
            <a:ext cx="3103560" cy="15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con Esta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rincipalmente, pero no únicamente, para transporte de animales vivos como ganado bovino o porci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2897280" y="3022560"/>
            <a:ext cx="324648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Góndola para Transporte de Vehícu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ransporte vehicular con variaciones para vehículos nuevos o maquinaria que necesitan protección contra el medio amb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2968560" y="3022560"/>
            <a:ext cx="324648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457200" y="148104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Plataforma multini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ransporte vehicular, no protege contra el medio amb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2540160" y="3022560"/>
            <a:ext cx="374652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Plataforma para Máquina Pes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ransportar maquinaria pesada de grandes dimensiones como excavadoras y maquinarias de construc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1"/>
          <a:stretch/>
        </p:blipFill>
        <p:spPr>
          <a:xfrm>
            <a:off x="2540160" y="3022560"/>
            <a:ext cx="367488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Plataforma para Carga sobre dimension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ransportar carga pesada de grandes dimensiones como madera (troncos o láminas), tubería de acero o vari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2825640" y="3022560"/>
            <a:ext cx="303228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"/>
          <p:cNvGrpSpPr/>
          <p:nvPr/>
        </p:nvGrpSpPr>
        <p:grpSpPr>
          <a:xfrm>
            <a:off x="298440" y="268200"/>
            <a:ext cx="8393040" cy="1157400"/>
            <a:chOff x="298440" y="268200"/>
            <a:chExt cx="8393040" cy="1157400"/>
          </a:xfrm>
        </p:grpSpPr>
        <p:pic>
          <p:nvPicPr>
            <p:cNvPr id="431" name="Picture 2" descr=""/>
            <p:cNvPicPr/>
            <p:nvPr/>
          </p:nvPicPr>
          <p:blipFill>
            <a:blip r:embed="rId1"/>
            <a:stretch/>
          </p:blipFill>
          <p:spPr>
            <a:xfrm>
              <a:off x="298440" y="268200"/>
              <a:ext cx="839304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3"/>
            <p:cNvSpPr/>
            <p:nvPr/>
          </p:nvSpPr>
          <p:spPr>
            <a:xfrm>
              <a:off x="298440" y="268200"/>
              <a:ext cx="839304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Group 4"/>
          <p:cNvGrpSpPr/>
          <p:nvPr/>
        </p:nvGrpSpPr>
        <p:grpSpPr>
          <a:xfrm>
            <a:off x="857160" y="1500120"/>
            <a:ext cx="3141720" cy="1417680"/>
            <a:chOff x="857160" y="1500120"/>
            <a:chExt cx="3141720" cy="1417680"/>
          </a:xfrm>
        </p:grpSpPr>
        <p:pic>
          <p:nvPicPr>
            <p:cNvPr id="434" name="Picture 5" descr=""/>
            <p:cNvPicPr/>
            <p:nvPr/>
          </p:nvPicPr>
          <p:blipFill>
            <a:blip r:embed="rId2"/>
            <a:stretch/>
          </p:blipFill>
          <p:spPr>
            <a:xfrm>
              <a:off x="857160" y="1500120"/>
              <a:ext cx="314172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6"/>
            <p:cNvSpPr/>
            <p:nvPr/>
          </p:nvSpPr>
          <p:spPr>
            <a:xfrm>
              <a:off x="857160" y="1500120"/>
              <a:ext cx="314172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6" name="Picture 7" descr=""/>
          <p:cNvPicPr/>
          <p:nvPr/>
        </p:nvPicPr>
        <p:blipFill>
          <a:blip r:embed="rId3"/>
          <a:stretch/>
        </p:blipFill>
        <p:spPr>
          <a:xfrm>
            <a:off x="4500720" y="1500120"/>
            <a:ext cx="4071960" cy="221472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8"/>
          <p:cNvSpPr/>
          <p:nvPr/>
        </p:nvSpPr>
        <p:spPr>
          <a:xfrm>
            <a:off x="642960" y="41432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ANCHURA MAXIMA FRENTE: Esta dimensión está basada en la anchura de las rutas y preservar de roces por infringi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ONGITUD VEHICULO RIGIDO (2,3,4 ejes): Medidas autorizadas incluyendo la Caja Carga (10m)  (Se excluye autobu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642960" y="310500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ANCHURA MAX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FR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2"/>
          <p:cNvGrpSpPr/>
          <p:nvPr/>
        </p:nvGrpSpPr>
        <p:grpSpPr>
          <a:xfrm>
            <a:off x="428760" y="1214280"/>
            <a:ext cx="3641760" cy="1355760"/>
            <a:chOff x="428760" y="1214280"/>
            <a:chExt cx="3641760" cy="1355760"/>
          </a:xfrm>
        </p:grpSpPr>
        <p:pic>
          <p:nvPicPr>
            <p:cNvPr id="441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214280"/>
              <a:ext cx="364176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4"/>
            <p:cNvSpPr/>
            <p:nvPr/>
          </p:nvSpPr>
          <p:spPr>
            <a:xfrm>
              <a:off x="428760" y="1214280"/>
              <a:ext cx="3641760" cy="13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3" name="Picture 5" descr=""/>
          <p:cNvPicPr/>
          <p:nvPr/>
        </p:nvPicPr>
        <p:blipFill>
          <a:blip r:embed="rId2"/>
          <a:stretch/>
        </p:blipFill>
        <p:spPr>
          <a:xfrm>
            <a:off x="4572000" y="1214280"/>
            <a:ext cx="4143240" cy="15051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285840" y="3000240"/>
            <a:ext cx="428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ONGITUD MAXIMA TOTAL: Comienzo a final del remolque: máximo:16.40m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tancia entre eje posterior vehículo y remolque: mínimo: 3m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ongitud total Unidad: máximo: 18.75m (incluyendo cabina y espaci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786200" y="3071880"/>
            <a:ext cx="3786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ONGITUD MAXIMA TOTAL - TRANSPORTE VEHICULOS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Máxima:20.55m (Utilizando soporte trasero autorizado)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No pudiendo sobresalir en relación carga salvo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'que el último eje del vehículo descanse sobre estructura remolque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"/>
          <p:cNvGrpSpPr/>
          <p:nvPr/>
        </p:nvGrpSpPr>
        <p:grpSpPr>
          <a:xfrm>
            <a:off x="195120" y="268200"/>
            <a:ext cx="8526600" cy="1157400"/>
            <a:chOff x="195120" y="268200"/>
            <a:chExt cx="8526600" cy="1157400"/>
          </a:xfrm>
        </p:grpSpPr>
        <p:pic>
          <p:nvPicPr>
            <p:cNvPr id="447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5266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3"/>
            <p:cNvSpPr/>
            <p:nvPr/>
          </p:nvSpPr>
          <p:spPr>
            <a:xfrm>
              <a:off x="195120" y="268200"/>
              <a:ext cx="85266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Group 4"/>
          <p:cNvGrpSpPr/>
          <p:nvPr/>
        </p:nvGrpSpPr>
        <p:grpSpPr>
          <a:xfrm>
            <a:off x="428760" y="1500120"/>
            <a:ext cx="3784320" cy="2570400"/>
            <a:chOff x="428760" y="1500120"/>
            <a:chExt cx="3784320" cy="2570400"/>
          </a:xfrm>
        </p:grpSpPr>
        <p:pic>
          <p:nvPicPr>
            <p:cNvPr id="450" name="Picture 5" descr=""/>
            <p:cNvPicPr/>
            <p:nvPr/>
          </p:nvPicPr>
          <p:blipFill>
            <a:blip r:embed="rId2"/>
            <a:stretch/>
          </p:blipFill>
          <p:spPr>
            <a:xfrm>
              <a:off x="428760" y="1500120"/>
              <a:ext cx="3784320" cy="25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6"/>
            <p:cNvSpPr/>
            <p:nvPr/>
          </p:nvSpPr>
          <p:spPr>
            <a:xfrm>
              <a:off x="428760" y="1500120"/>
              <a:ext cx="3784320" cy="25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2" name="Picture 7" descr=""/>
          <p:cNvPicPr/>
          <p:nvPr/>
        </p:nvPicPr>
        <p:blipFill>
          <a:blip r:embed="rId3"/>
          <a:stretch/>
        </p:blipFill>
        <p:spPr>
          <a:xfrm>
            <a:off x="4572000" y="1500120"/>
            <a:ext cx="4286160" cy="25005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8"/>
          <p:cNvSpPr/>
          <p:nvPr/>
        </p:nvSpPr>
        <p:spPr>
          <a:xfrm>
            <a:off x="285840" y="4286160"/>
            <a:ext cx="400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Capacidad Carga: 27000kg - 101m3 - Pallets piso: 30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 Interno</a:t>
            </a: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: 15.25m - Ancho Interno: 2.45m 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Altura Interna: 2.6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5715000" y="4286160"/>
            <a:ext cx="285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Capacidad Carga: 28000kg - 91m3 - Pallets piso: 28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 Interno: 14.30m - Ancho Interno: 2.45m - Altura Interna: 2.6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428760" y="1143000"/>
            <a:ext cx="825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Lucida Sans Unicode"/>
              </a:rPr>
              <a:t>Es el medio por el cual se transporta las diferentes clases de cargas y/o mercancí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Modo Aé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Modo Marítim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Modo Terrest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Modo Fluv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Modo Ole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2"/>
          <p:cNvGrpSpPr/>
          <p:nvPr/>
        </p:nvGrpSpPr>
        <p:grpSpPr>
          <a:xfrm>
            <a:off x="195120" y="66600"/>
            <a:ext cx="8496360" cy="1150920"/>
            <a:chOff x="195120" y="66600"/>
            <a:chExt cx="8496360" cy="1150920"/>
          </a:xfrm>
        </p:grpSpPr>
        <p:pic>
          <p:nvPicPr>
            <p:cNvPr id="375" name="Picture 3" descr=""/>
            <p:cNvPicPr/>
            <p:nvPr/>
          </p:nvPicPr>
          <p:blipFill>
            <a:blip r:embed="rId1"/>
            <a:stretch/>
          </p:blipFill>
          <p:spPr>
            <a:xfrm>
              <a:off x="195120" y="66600"/>
              <a:ext cx="84963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4"/>
            <p:cNvSpPr/>
            <p:nvPr/>
          </p:nvSpPr>
          <p:spPr>
            <a:xfrm>
              <a:off x="195120" y="66600"/>
              <a:ext cx="849636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4143240" y="3357720"/>
            <a:ext cx="952560" cy="742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"/>
          <p:cNvPicPr/>
          <p:nvPr/>
        </p:nvPicPr>
        <p:blipFill>
          <a:blip r:embed="rId3"/>
          <a:stretch/>
        </p:blipFill>
        <p:spPr>
          <a:xfrm>
            <a:off x="5072040" y="371484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4"/>
          <a:stretch/>
        </p:blipFill>
        <p:spPr>
          <a:xfrm>
            <a:off x="6000840" y="414324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5"/>
          <a:stretch/>
        </p:blipFill>
        <p:spPr>
          <a:xfrm>
            <a:off x="3214800" y="300024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"/>
          <p:cNvPicPr/>
          <p:nvPr/>
        </p:nvPicPr>
        <p:blipFill>
          <a:blip r:embed="rId6"/>
          <a:stretch/>
        </p:blipFill>
        <p:spPr>
          <a:xfrm>
            <a:off x="6929280" y="4572000"/>
            <a:ext cx="95256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456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4"/>
          <p:cNvGrpSpPr/>
          <p:nvPr/>
        </p:nvGrpSpPr>
        <p:grpSpPr>
          <a:xfrm>
            <a:off x="857160" y="1285920"/>
            <a:ext cx="7642440" cy="3057480"/>
            <a:chOff x="857160" y="1285920"/>
            <a:chExt cx="7642440" cy="3057480"/>
          </a:xfrm>
        </p:grpSpPr>
        <p:pic>
          <p:nvPicPr>
            <p:cNvPr id="459" name="Picture 5" descr=""/>
            <p:cNvPicPr/>
            <p:nvPr/>
          </p:nvPicPr>
          <p:blipFill>
            <a:blip r:embed="rId2"/>
            <a:stretch/>
          </p:blipFill>
          <p:spPr>
            <a:xfrm>
              <a:off x="857160" y="1285920"/>
              <a:ext cx="764244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6"/>
            <p:cNvSpPr/>
            <p:nvPr/>
          </p:nvSpPr>
          <p:spPr>
            <a:xfrm>
              <a:off x="857160" y="1285920"/>
              <a:ext cx="7642440" cy="30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Rectangle 7"/>
          <p:cNvSpPr/>
          <p:nvPr/>
        </p:nvSpPr>
        <p:spPr>
          <a:xfrm flipV="1" rot="10800000">
            <a:off x="928440" y="444924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Capacidad Carga: 16000kgs/30000kgs - Tara: 4.63/7.7kg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 : 10.67/13.5m - Ancho : 2.6m - Altura : 1.3/1.43m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463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4"/>
          <p:cNvGrpSpPr/>
          <p:nvPr/>
        </p:nvGrpSpPr>
        <p:grpSpPr>
          <a:xfrm>
            <a:off x="285840" y="1428840"/>
            <a:ext cx="8642160" cy="3141720"/>
            <a:chOff x="285840" y="1428840"/>
            <a:chExt cx="8642160" cy="3141720"/>
          </a:xfrm>
        </p:grpSpPr>
        <p:pic>
          <p:nvPicPr>
            <p:cNvPr id="466" name="Picture 5" descr=""/>
            <p:cNvPicPr/>
            <p:nvPr/>
          </p:nvPicPr>
          <p:blipFill>
            <a:blip r:embed="rId2"/>
            <a:stretch/>
          </p:blipFill>
          <p:spPr>
            <a:xfrm>
              <a:off x="285840" y="1428840"/>
              <a:ext cx="864216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6"/>
            <p:cNvSpPr/>
            <p:nvPr/>
          </p:nvSpPr>
          <p:spPr>
            <a:xfrm>
              <a:off x="285840" y="1428840"/>
              <a:ext cx="8642160" cy="31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Rectangle 7"/>
          <p:cNvSpPr/>
          <p:nvPr/>
        </p:nvSpPr>
        <p:spPr>
          <a:xfrm flipV="1" rot="10800000">
            <a:off x="1501560" y="4810680"/>
            <a:ext cx="65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Capacidad Carga: 32.000kgs - Modelo para Contenedor 20"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 : 8.27m - Ancho : 2.50m - Altura : 1.44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470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4"/>
          <p:cNvGrpSpPr/>
          <p:nvPr/>
        </p:nvGrpSpPr>
        <p:grpSpPr>
          <a:xfrm>
            <a:off x="928800" y="1714680"/>
            <a:ext cx="7642080" cy="2809800"/>
            <a:chOff x="928800" y="1714680"/>
            <a:chExt cx="7642080" cy="2809800"/>
          </a:xfrm>
        </p:grpSpPr>
        <p:pic>
          <p:nvPicPr>
            <p:cNvPr id="473" name="Picture 5" descr=""/>
            <p:cNvPicPr/>
            <p:nvPr/>
          </p:nvPicPr>
          <p:blipFill>
            <a:blip r:embed="rId2"/>
            <a:stretch/>
          </p:blipFill>
          <p:spPr>
            <a:xfrm>
              <a:off x="928800" y="1714680"/>
              <a:ext cx="7642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6"/>
            <p:cNvSpPr/>
            <p:nvPr/>
          </p:nvSpPr>
          <p:spPr>
            <a:xfrm>
              <a:off x="928800" y="1714680"/>
              <a:ext cx="7642080" cy="28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7"/>
          <p:cNvSpPr/>
          <p:nvPr/>
        </p:nvSpPr>
        <p:spPr>
          <a:xfrm>
            <a:off x="1000080" y="48132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Volumen: 33mt3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 : 12.5m - Ancho : 2.6m - Altura : 3.9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477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Group 4"/>
          <p:cNvGrpSpPr/>
          <p:nvPr/>
        </p:nvGrpSpPr>
        <p:grpSpPr>
          <a:xfrm>
            <a:off x="214200" y="1500120"/>
            <a:ext cx="8713800" cy="2943360"/>
            <a:chOff x="214200" y="1500120"/>
            <a:chExt cx="8713800" cy="2943360"/>
          </a:xfrm>
        </p:grpSpPr>
        <p:pic>
          <p:nvPicPr>
            <p:cNvPr id="480" name="Picture 5" descr=""/>
            <p:cNvPicPr/>
            <p:nvPr/>
          </p:nvPicPr>
          <p:blipFill>
            <a:blip r:embed="rId2"/>
            <a:stretch/>
          </p:blipFill>
          <p:spPr>
            <a:xfrm>
              <a:off x="214200" y="1500120"/>
              <a:ext cx="871380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Text Box 6"/>
            <p:cNvSpPr/>
            <p:nvPr/>
          </p:nvSpPr>
          <p:spPr>
            <a:xfrm>
              <a:off x="214200" y="1500120"/>
              <a:ext cx="8713800" cy="29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Rectangle 7"/>
          <p:cNvSpPr/>
          <p:nvPr/>
        </p:nvSpPr>
        <p:spPr>
          <a:xfrm>
            <a:off x="1071720" y="481320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Carga: 33.000kgs - Tara: 9.400kg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 : 14.8m - Ancho : 2.6m - Altura : 4.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Contenedo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Refrigerad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Gener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Gran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Cisterna - Tanqu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2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485" name="Picture 3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 Box 4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488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Group 4"/>
          <p:cNvGrpSpPr/>
          <p:nvPr/>
        </p:nvGrpSpPr>
        <p:grpSpPr>
          <a:xfrm>
            <a:off x="571680" y="1643040"/>
            <a:ext cx="6499080" cy="1355760"/>
            <a:chOff x="571680" y="1643040"/>
            <a:chExt cx="6499080" cy="1355760"/>
          </a:xfrm>
        </p:grpSpPr>
        <p:pic>
          <p:nvPicPr>
            <p:cNvPr id="491" name="Picture 5" descr=""/>
            <p:cNvPicPr/>
            <p:nvPr/>
          </p:nvPicPr>
          <p:blipFill>
            <a:blip r:embed="rId2"/>
            <a:stretch/>
          </p:blipFill>
          <p:spPr>
            <a:xfrm>
              <a:off x="571680" y="1643040"/>
              <a:ext cx="649908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6"/>
            <p:cNvSpPr/>
            <p:nvPr/>
          </p:nvSpPr>
          <p:spPr>
            <a:xfrm>
              <a:off x="571680" y="1643040"/>
              <a:ext cx="6499080" cy="13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Rectangle 7"/>
          <p:cNvSpPr/>
          <p:nvPr/>
        </p:nvSpPr>
        <p:spPr>
          <a:xfrm>
            <a:off x="571680" y="3071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una sola cubierta y bahía de carga que incluye arreglos especiales con divisiones de celdas para el transporte de contene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785880" y="407196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racterísticas adap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ubiertas sin apertura o escotillas superiore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Bahía adicional de carga para el traslado de carga seca o líquida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Puntos específicos para contenedores eléctricos de refrigeración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Bahía de carga totalmente refrigerada para el transporte de perecede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"/>
          <p:cNvGrpSpPr/>
          <p:nvPr/>
        </p:nvGrpSpPr>
        <p:grpSpPr>
          <a:xfrm>
            <a:off x="225360" y="268200"/>
            <a:ext cx="8466120" cy="1157400"/>
            <a:chOff x="225360" y="268200"/>
            <a:chExt cx="8466120" cy="1157400"/>
          </a:xfrm>
        </p:grpSpPr>
        <p:pic>
          <p:nvPicPr>
            <p:cNvPr id="496" name="Picture 2" descr=""/>
            <p:cNvPicPr/>
            <p:nvPr/>
          </p:nvPicPr>
          <p:blipFill>
            <a:blip r:embed="rId1"/>
            <a:stretch/>
          </p:blipFill>
          <p:spPr>
            <a:xfrm>
              <a:off x="225360" y="268200"/>
              <a:ext cx="846612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Text Box 3"/>
            <p:cNvSpPr/>
            <p:nvPr/>
          </p:nvSpPr>
          <p:spPr>
            <a:xfrm>
              <a:off x="225360" y="268200"/>
              <a:ext cx="846612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Group 4"/>
          <p:cNvGrpSpPr/>
          <p:nvPr/>
        </p:nvGrpSpPr>
        <p:grpSpPr>
          <a:xfrm>
            <a:off x="130320" y="1714680"/>
            <a:ext cx="6940440" cy="1855440"/>
            <a:chOff x="130320" y="1714680"/>
            <a:chExt cx="6940440" cy="1855440"/>
          </a:xfrm>
        </p:grpSpPr>
        <p:pic>
          <p:nvPicPr>
            <p:cNvPr id="499" name="Picture 5" descr=""/>
            <p:cNvPicPr/>
            <p:nvPr/>
          </p:nvPicPr>
          <p:blipFill>
            <a:blip r:embed="rId2"/>
            <a:stretch/>
          </p:blipFill>
          <p:spPr>
            <a:xfrm>
              <a:off x="130320" y="1714680"/>
              <a:ext cx="6940440" cy="18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6"/>
            <p:cNvSpPr/>
            <p:nvPr/>
          </p:nvSpPr>
          <p:spPr>
            <a:xfrm>
              <a:off x="130320" y="1714680"/>
              <a:ext cx="6940440" cy="18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Rectangle 7"/>
          <p:cNvSpPr/>
          <p:nvPr/>
        </p:nvSpPr>
        <p:spPr>
          <a:xfrm>
            <a:off x="714240" y="3643200"/>
            <a:ext cx="61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cubiertas y bahías de carga que incluyen arreglos especiales para el transporte de carga de perecede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500040" y="485784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racterísticas adap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Elevadores especiales a los lados para la carga de vehículos de carret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504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Group 4"/>
          <p:cNvGrpSpPr/>
          <p:nvPr/>
        </p:nvGrpSpPr>
        <p:grpSpPr>
          <a:xfrm>
            <a:off x="130320" y="1285920"/>
            <a:ext cx="7654680" cy="1427040"/>
            <a:chOff x="130320" y="1285920"/>
            <a:chExt cx="7654680" cy="1427040"/>
          </a:xfrm>
        </p:grpSpPr>
        <p:pic>
          <p:nvPicPr>
            <p:cNvPr id="507" name="Picture 5" descr=""/>
            <p:cNvPicPr/>
            <p:nvPr/>
          </p:nvPicPr>
          <p:blipFill>
            <a:blip r:embed="rId2"/>
            <a:stretch/>
          </p:blipFill>
          <p:spPr>
            <a:xfrm>
              <a:off x="130320" y="1285920"/>
              <a:ext cx="76546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 Box 6"/>
            <p:cNvSpPr/>
            <p:nvPr/>
          </p:nvSpPr>
          <p:spPr>
            <a:xfrm>
              <a:off x="130320" y="1285920"/>
              <a:ext cx="7654680" cy="14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Rectangle 7"/>
          <p:cNvSpPr/>
          <p:nvPr/>
        </p:nvSpPr>
        <p:spPr>
          <a:xfrm>
            <a:off x="214200" y="271476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una sola bahía de carga que incluye un compartimiento o varios entre cubiertas, específicamente para varios tipos de carga se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214200" y="3357720"/>
            <a:ext cx="835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racterísticas adap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Bahía única de doble recubrimiento exterior y amplias aperturas para la carga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Refuerzos para el traslado de carga pesada (incluido hierro / aluminio)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Bahías de carga equipadas con arreglos de seguridad para contenedore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Tanques especialmente diseñados para carga de mercancia líquida.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Espacio refrigerado para la carga de pereceder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rga adicional y espacios de carga para pall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512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Group 4"/>
          <p:cNvGrpSpPr/>
          <p:nvPr/>
        </p:nvGrpSpPr>
        <p:grpSpPr>
          <a:xfrm>
            <a:off x="287280" y="1285920"/>
            <a:ext cx="5168880" cy="1427040"/>
            <a:chOff x="287280" y="1285920"/>
            <a:chExt cx="5168880" cy="1427040"/>
          </a:xfrm>
        </p:grpSpPr>
        <p:pic>
          <p:nvPicPr>
            <p:cNvPr id="515" name="Picture 5" descr=""/>
            <p:cNvPicPr/>
            <p:nvPr/>
          </p:nvPicPr>
          <p:blipFill>
            <a:blip r:embed="rId2"/>
            <a:stretch/>
          </p:blipFill>
          <p:spPr>
            <a:xfrm>
              <a:off x="287280" y="1285920"/>
              <a:ext cx="51688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Text Box 6"/>
            <p:cNvSpPr/>
            <p:nvPr/>
          </p:nvSpPr>
          <p:spPr>
            <a:xfrm>
              <a:off x="287280" y="1285920"/>
              <a:ext cx="5168880" cy="14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Rectangle 7"/>
          <p:cNvSpPr/>
          <p:nvPr/>
        </p:nvSpPr>
        <p:spPr>
          <a:xfrm>
            <a:off x="214200" y="2428920"/>
            <a:ext cx="89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una sola bahía de carga, que incluye arreglos para tanques y bahías diseñadas específicamente para el transporte de carga suelta de varios tipos de naturaleza homogén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214200" y="357192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racterísticas adap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Bahías de carga a los lad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Refuerzos para carga pesada (incluído hierro / aluminio)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Bahías equipadas para el transporte de contenedores y vehícul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ubierta superior provista con anclaje para el transporte de bult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Restricciones de diseño y servicio relativo a operaciones en los Gande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 Lagos de Norteamé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520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Group 4"/>
          <p:cNvGrpSpPr/>
          <p:nvPr/>
        </p:nvGrpSpPr>
        <p:grpSpPr>
          <a:xfrm>
            <a:off x="500040" y="1428840"/>
            <a:ext cx="5481720" cy="1498680"/>
            <a:chOff x="500040" y="1428840"/>
            <a:chExt cx="5481720" cy="1498680"/>
          </a:xfrm>
        </p:grpSpPr>
        <p:pic>
          <p:nvPicPr>
            <p:cNvPr id="523" name="Picture 5" descr=""/>
            <p:cNvPicPr/>
            <p:nvPr/>
          </p:nvPicPr>
          <p:blipFill>
            <a:blip r:embed="rId2"/>
            <a:stretch/>
          </p:blipFill>
          <p:spPr>
            <a:xfrm>
              <a:off x="500040" y="1428840"/>
              <a:ext cx="54817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6"/>
            <p:cNvSpPr/>
            <p:nvPr/>
          </p:nvSpPr>
          <p:spPr>
            <a:xfrm>
              <a:off x="500040" y="1428840"/>
              <a:ext cx="548172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Rectangle 7"/>
          <p:cNvSpPr/>
          <p:nvPr/>
        </p:nvSpPr>
        <p:spPr>
          <a:xfrm>
            <a:off x="214200" y="269064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una sola bahía de carga que incluye un arreglo para uno o más tanques independientes diseñados específicamente para el translado de mercancía en forma líqu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285840" y="3786120"/>
            <a:ext cx="850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racterísticas adap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rguero de combustible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rguero de químic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rguero de combustibles / químic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rguero de gas líquido (usualmente tanques independientes)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rguero de gas líquido / químic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Otros (carguero de agua, de vino, jugos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457200" y="1285920"/>
            <a:ext cx="822960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Lucida Sans Unicode"/>
              </a:rPr>
              <a:t>Es el bien por el cual se realiza el transporte de carga y/o mercancí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Av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Buqu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Camiones, Tren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Planchones, Barcazas, Fer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Tubería</a:t>
            </a:r>
            <a:r>
              <a:rPr b="0" lang="es-CO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2"/>
          <p:cNvGrpSpPr/>
          <p:nvPr/>
        </p:nvGrpSpPr>
        <p:grpSpPr>
          <a:xfrm>
            <a:off x="219240" y="66600"/>
            <a:ext cx="8472240" cy="1150920"/>
            <a:chOff x="219240" y="66600"/>
            <a:chExt cx="8472240" cy="1150920"/>
          </a:xfrm>
        </p:grpSpPr>
        <p:pic>
          <p:nvPicPr>
            <p:cNvPr id="384" name="Picture 3" descr=""/>
            <p:cNvPicPr/>
            <p:nvPr/>
          </p:nvPicPr>
          <p:blipFill>
            <a:blip r:embed="rId1"/>
            <a:stretch/>
          </p:blipFill>
          <p:spPr>
            <a:xfrm>
              <a:off x="219240" y="66600"/>
              <a:ext cx="84722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4"/>
            <p:cNvSpPr/>
            <p:nvPr/>
          </p:nvSpPr>
          <p:spPr>
            <a:xfrm>
              <a:off x="219240" y="66600"/>
              <a:ext cx="847224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Picture 5" descr=""/>
          <p:cNvPicPr/>
          <p:nvPr/>
        </p:nvPicPr>
        <p:blipFill>
          <a:blip r:embed="rId2"/>
          <a:stretch/>
        </p:blipFill>
        <p:spPr>
          <a:xfrm>
            <a:off x="4214880" y="371484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3"/>
          <a:stretch/>
        </p:blipFill>
        <p:spPr>
          <a:xfrm>
            <a:off x="5143680" y="4143240"/>
            <a:ext cx="952200" cy="743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4"/>
          <a:stretch/>
        </p:blipFill>
        <p:spPr>
          <a:xfrm>
            <a:off x="6072120" y="457200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"/>
          <p:cNvPicPr/>
          <p:nvPr/>
        </p:nvPicPr>
        <p:blipFill>
          <a:blip r:embed="rId5"/>
          <a:stretch/>
        </p:blipFill>
        <p:spPr>
          <a:xfrm>
            <a:off x="3286080" y="328608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"/>
          <p:cNvPicPr/>
          <p:nvPr/>
        </p:nvPicPr>
        <p:blipFill>
          <a:blip r:embed="rId6"/>
          <a:stretch/>
        </p:blipFill>
        <p:spPr>
          <a:xfrm>
            <a:off x="7000920" y="4929120"/>
            <a:ext cx="95256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528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Group 4"/>
          <p:cNvGrpSpPr/>
          <p:nvPr/>
        </p:nvGrpSpPr>
        <p:grpSpPr>
          <a:xfrm>
            <a:off x="0" y="1071720"/>
            <a:ext cx="8642520" cy="1141200"/>
            <a:chOff x="0" y="1071720"/>
            <a:chExt cx="8642520" cy="1141200"/>
          </a:xfrm>
        </p:grpSpPr>
        <p:pic>
          <p:nvPicPr>
            <p:cNvPr id="531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071720"/>
              <a:ext cx="8642520" cy="11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 Box 6"/>
            <p:cNvSpPr/>
            <p:nvPr/>
          </p:nvSpPr>
          <p:spPr>
            <a:xfrm>
              <a:off x="0" y="1071720"/>
              <a:ext cx="8642520" cy="11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Rectangle 7"/>
          <p:cNvSpPr/>
          <p:nvPr/>
        </p:nvSpPr>
        <p:spPr>
          <a:xfrm>
            <a:off x="214200" y="214308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cubiertas específicas para el traslado y transporte de vehículos ferroviarios y vehículos rodoviarios, y para mercancía que puede ser cargada y descargada por vehículos con rue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0" y="30718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racterísticas adap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ubiertas con rieles fijos para la carga de vehículos ferrroviarios exclusivamente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 o simultáneamente con vehículos rodoviari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Mercancia adicional para ser descendida o ascendida desde la bahía de carga por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 las compuertas superiores o alternativamente, por equipo especializado de muelle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binas para los conductores de vehícul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Maquinaria para la carga de pallets por los laterales de la nave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Rampas internas o elevadores para el movimiento de la carga entre cubierta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Áreas o cubiertas equipadas con establos para el transporte de carga viva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 (estos establos pueden ser o no removi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"/>
          <p:cNvGrpSpPr/>
          <p:nvPr/>
        </p:nvGrpSpPr>
        <p:grpSpPr>
          <a:xfrm>
            <a:off x="225360" y="268200"/>
            <a:ext cx="8466120" cy="1157400"/>
            <a:chOff x="225360" y="268200"/>
            <a:chExt cx="8466120" cy="1157400"/>
          </a:xfrm>
        </p:grpSpPr>
        <p:pic>
          <p:nvPicPr>
            <p:cNvPr id="536" name="Picture 2" descr=""/>
            <p:cNvPicPr/>
            <p:nvPr/>
          </p:nvPicPr>
          <p:blipFill>
            <a:blip r:embed="rId1"/>
            <a:stretch/>
          </p:blipFill>
          <p:spPr>
            <a:xfrm>
              <a:off x="225360" y="268200"/>
              <a:ext cx="846612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3"/>
            <p:cNvSpPr/>
            <p:nvPr/>
          </p:nvSpPr>
          <p:spPr>
            <a:xfrm>
              <a:off x="225360" y="268200"/>
              <a:ext cx="846612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8" name="Group 4"/>
          <p:cNvGrpSpPr/>
          <p:nvPr/>
        </p:nvGrpSpPr>
        <p:grpSpPr>
          <a:xfrm>
            <a:off x="714240" y="1214280"/>
            <a:ext cx="7499520" cy="2284560"/>
            <a:chOff x="714240" y="1214280"/>
            <a:chExt cx="7499520" cy="2284560"/>
          </a:xfrm>
        </p:grpSpPr>
        <p:pic>
          <p:nvPicPr>
            <p:cNvPr id="539" name="Picture 5" descr=""/>
            <p:cNvPicPr/>
            <p:nvPr/>
          </p:nvPicPr>
          <p:blipFill>
            <a:blip r:embed="rId2"/>
            <a:stretch/>
          </p:blipFill>
          <p:spPr>
            <a:xfrm>
              <a:off x="714240" y="1214280"/>
              <a:ext cx="7499520" cy="22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Text Box 6"/>
            <p:cNvSpPr/>
            <p:nvPr/>
          </p:nvSpPr>
          <p:spPr>
            <a:xfrm>
              <a:off x="714240" y="1214280"/>
              <a:ext cx="7499520" cy="22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Rectangle 7"/>
          <p:cNvSpPr/>
          <p:nvPr/>
        </p:nvSpPr>
        <p:spPr>
          <a:xfrm>
            <a:off x="785880" y="32148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cubiertas y una superestructura específica para el traslado y la carga de vehículos carreteros nue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457200" y="1571760"/>
            <a:ext cx="822960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Lucida Sans Unicode"/>
              </a:rPr>
              <a:t>VEHICULOS DE EMERG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RROS DE BOMB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TRUL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MBULA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SC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Lucida Sans Unicode"/>
              </a:rPr>
              <a:t>SISTEMAS DE 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MARAS DE VIGIL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NSORES CONTRA INCEND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NSORES DE MOVIMIEN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ISTEMAS DE CONTROL DE INGRESO Y SALIDA DE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ISTEMAS DE CONTROL DE INGRESO Y SALIDA DE MERCA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TIN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2"/>
          <p:cNvGrpSpPr/>
          <p:nvPr/>
        </p:nvGrpSpPr>
        <p:grpSpPr>
          <a:xfrm>
            <a:off x="450720" y="268200"/>
            <a:ext cx="8240760" cy="1157400"/>
            <a:chOff x="450720" y="268200"/>
            <a:chExt cx="8240760" cy="1157400"/>
          </a:xfrm>
        </p:grpSpPr>
        <p:pic>
          <p:nvPicPr>
            <p:cNvPr id="544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 Box 4"/>
            <p:cNvSpPr/>
            <p:nvPr/>
          </p:nvSpPr>
          <p:spPr>
            <a:xfrm>
              <a:off x="450720" y="26820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457200" y="1428840"/>
            <a:ext cx="822960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Carro de Bomber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Vehícul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Tanque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Escal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Patrulla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Vehículo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Group 2"/>
          <p:cNvGrpSpPr/>
          <p:nvPr/>
        </p:nvGrpSpPr>
        <p:grpSpPr>
          <a:xfrm>
            <a:off x="171360" y="255600"/>
            <a:ext cx="8520120" cy="1035000"/>
            <a:chOff x="171360" y="255600"/>
            <a:chExt cx="8520120" cy="1035000"/>
          </a:xfrm>
        </p:grpSpPr>
        <p:pic>
          <p:nvPicPr>
            <p:cNvPr id="548" name="Picture 3" descr=""/>
            <p:cNvPicPr/>
            <p:nvPr/>
          </p:nvPicPr>
          <p:blipFill>
            <a:blip r:embed="rId1"/>
            <a:stretch/>
          </p:blipFill>
          <p:spPr>
            <a:xfrm>
              <a:off x="171360" y="255600"/>
              <a:ext cx="852012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 Box 4"/>
            <p:cNvSpPr/>
            <p:nvPr/>
          </p:nvSpPr>
          <p:spPr>
            <a:xfrm>
              <a:off x="171360" y="255600"/>
              <a:ext cx="8520120" cy="10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0" name="Picture 5" descr=""/>
          <p:cNvPicPr/>
          <p:nvPr/>
        </p:nvPicPr>
        <p:blipFill>
          <a:blip r:embed="rId2"/>
          <a:stretch/>
        </p:blipFill>
        <p:spPr>
          <a:xfrm>
            <a:off x="2928960" y="1857240"/>
            <a:ext cx="3071880" cy="14288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"/>
          <p:cNvPicPr/>
          <p:nvPr/>
        </p:nvPicPr>
        <p:blipFill>
          <a:blip r:embed="rId3"/>
          <a:stretch/>
        </p:blipFill>
        <p:spPr>
          <a:xfrm>
            <a:off x="3325680" y="4214880"/>
            <a:ext cx="26035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"/>
          <p:cNvSpPr/>
          <p:nvPr/>
        </p:nvSpPr>
        <p:spPr>
          <a:xfrm>
            <a:off x="457200" y="500040"/>
            <a:ext cx="8229600" cy="64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Ambulancia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Vehículo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Asistencia Medicaliz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Resca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Vehículo Bivial de Auxilio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Resc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2928960" cy="22147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4500720" y="1000080"/>
            <a:ext cx="26431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Cámaras de Segurida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2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557" name="Picture 3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4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5" descr=""/>
          <p:cNvPicPr/>
          <p:nvPr/>
        </p:nvPicPr>
        <p:blipFill>
          <a:blip r:embed="rId2"/>
          <a:stretch/>
        </p:blipFill>
        <p:spPr>
          <a:xfrm>
            <a:off x="1571760" y="2214720"/>
            <a:ext cx="550044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457200" y="642960"/>
            <a:ext cx="822960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Sensores Contra Incendi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1500120" y="1500120"/>
            <a:ext cx="571500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457200" y="642960"/>
            <a:ext cx="822960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Sensores de Movimient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1928880" y="1357200"/>
            <a:ext cx="485784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457200" y="571680"/>
            <a:ext cx="82296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istemas de Control de Ingreso y Salida Pers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4786200" y="3786120"/>
            <a:ext cx="29973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1"/>
          <p:cNvSpPr/>
          <p:nvPr/>
        </p:nvSpPr>
        <p:spPr>
          <a:xfrm>
            <a:off x="457200" y="571680"/>
            <a:ext cx="82296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istemas de control de Ingreso y salida de Mercancí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642960" y="1428840"/>
            <a:ext cx="3714840" cy="43574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4714920" y="1357200"/>
            <a:ext cx="385776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457200" y="1481040"/>
            <a:ext cx="8229600" cy="61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Lucida Sans Unicode"/>
              </a:rPr>
              <a:t>Existe una gran diversidad de productos susceptibles a ser transportados y comercializados; para garantizar un manejo adecuado,  la carga ha tenido que clasificarse 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Carga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Carga a Gr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Carga Peligr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3200" spc="-1" strike="noStrike">
                <a:solidFill>
                  <a:srgbClr val="000000"/>
                </a:solidFill>
                <a:latin typeface="Lucida Sans Unicode"/>
              </a:rPr>
              <a:t>Otros tipos de Car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2"/>
          <p:cNvGrpSpPr/>
          <p:nvPr/>
        </p:nvGrpSpPr>
        <p:grpSpPr>
          <a:xfrm>
            <a:off x="450720" y="268200"/>
            <a:ext cx="8240760" cy="1157400"/>
            <a:chOff x="450720" y="268200"/>
            <a:chExt cx="8240760" cy="1157400"/>
          </a:xfrm>
        </p:grpSpPr>
        <p:pic>
          <p:nvPicPr>
            <p:cNvPr id="393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4"/>
            <p:cNvSpPr/>
            <p:nvPr/>
          </p:nvSpPr>
          <p:spPr>
            <a:xfrm>
              <a:off x="450720" y="26820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571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4"/>
          <p:cNvGrpSpPr/>
          <p:nvPr/>
        </p:nvGrpSpPr>
        <p:grpSpPr>
          <a:xfrm>
            <a:off x="642960" y="1285920"/>
            <a:ext cx="7427880" cy="4738680"/>
            <a:chOff x="642960" y="1285920"/>
            <a:chExt cx="7427880" cy="4738680"/>
          </a:xfrm>
        </p:grpSpPr>
        <p:pic>
          <p:nvPicPr>
            <p:cNvPr id="574" name="Picture 5" descr=""/>
            <p:cNvPicPr/>
            <p:nvPr/>
          </p:nvPicPr>
          <p:blipFill>
            <a:blip r:embed="rId2"/>
            <a:stretch/>
          </p:blipFill>
          <p:spPr>
            <a:xfrm>
              <a:off x="642960" y="1285920"/>
              <a:ext cx="7427880" cy="47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6"/>
            <p:cNvSpPr/>
            <p:nvPr/>
          </p:nvSpPr>
          <p:spPr>
            <a:xfrm>
              <a:off x="642960" y="1285920"/>
              <a:ext cx="7427880" cy="47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"/>
          <p:cNvSpPr/>
          <p:nvPr/>
        </p:nvSpPr>
        <p:spPr>
          <a:xfrm>
            <a:off x="457200" y="571680"/>
            <a:ext cx="82296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tintores Portát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ransporte Manu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ransporte Sobre Rue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2500200" y="1285920"/>
            <a:ext cx="2071800" cy="17859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"/>
          <p:cNvPicPr/>
          <p:nvPr/>
        </p:nvPicPr>
        <p:blipFill>
          <a:blip r:embed="rId2"/>
          <a:stretch/>
        </p:blipFill>
        <p:spPr>
          <a:xfrm>
            <a:off x="5643720" y="1214280"/>
            <a:ext cx="2000160" cy="1857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"/>
          <p:cNvPicPr/>
          <p:nvPr/>
        </p:nvPicPr>
        <p:blipFill>
          <a:blip r:embed="rId3"/>
          <a:stretch/>
        </p:blipFill>
        <p:spPr>
          <a:xfrm>
            <a:off x="5643720" y="3857760"/>
            <a:ext cx="1827000" cy="2214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"/>
          <p:cNvPicPr/>
          <p:nvPr/>
        </p:nvPicPr>
        <p:blipFill>
          <a:blip r:embed="rId4"/>
          <a:stretch/>
        </p:blipFill>
        <p:spPr>
          <a:xfrm>
            <a:off x="2143080" y="3857760"/>
            <a:ext cx="208296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1"/>
          <p:cNvSpPr/>
          <p:nvPr/>
        </p:nvSpPr>
        <p:spPr>
          <a:xfrm>
            <a:off x="457200" y="571680"/>
            <a:ext cx="82296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tintores Portát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ransporte Manu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ransporte Sobre Rue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2500200" y="1285920"/>
            <a:ext cx="2071800" cy="1785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5643720" y="1214280"/>
            <a:ext cx="2000160" cy="1857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"/>
          <p:cNvPicPr/>
          <p:nvPr/>
        </p:nvPicPr>
        <p:blipFill>
          <a:blip r:embed="rId3"/>
          <a:stretch/>
        </p:blipFill>
        <p:spPr>
          <a:xfrm>
            <a:off x="5643720" y="3857760"/>
            <a:ext cx="1827000" cy="2214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4"/>
          <a:stretch/>
        </p:blipFill>
        <p:spPr>
          <a:xfrm>
            <a:off x="2143080" y="3857760"/>
            <a:ext cx="208296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1"/>
          <p:cNvSpPr/>
          <p:nvPr/>
        </p:nvSpPr>
        <p:spPr>
          <a:xfrm>
            <a:off x="457200" y="571680"/>
            <a:ext cx="822960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tintores Fij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cción Manu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cción Automát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Picture 2" descr="file:///D:/Documents%20and%20Settings/EAC/Mis%20documentos/Mis%20im%C3%A1genes/imagesCA79EJPP.jpg"/>
          <p:cNvPicPr/>
          <p:nvPr/>
        </p:nvPicPr>
        <p:blipFill>
          <a:blip r:embed=""/>
          <a:stretch/>
        </p:blipFill>
        <p:spPr>
          <a:xfrm>
            <a:off x="2519280" y="144000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file:///D:/Documents%20and%20Settings/EAC/Mis%20documentos/Mis%20im%C3%A1genes/imagesCAS1DMLZ.jpg"/>
          <p:cNvPicPr/>
          <p:nvPr/>
        </p:nvPicPr>
        <p:blipFill>
          <a:blip r:embed=""/>
          <a:stretch/>
        </p:blipFill>
        <p:spPr>
          <a:xfrm>
            <a:off x="3060720" y="4500720"/>
            <a:ext cx="1619280" cy="16189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5219640" y="4322880"/>
            <a:ext cx="1800360" cy="16192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file:///D:/Documents%20and%20Settings/EAC/Mis%20documentos/Mis%20im%C3%A1genes/imagesCA54SVLF.jpg"/>
          <p:cNvPicPr/>
          <p:nvPr/>
        </p:nvPicPr>
        <p:blipFill>
          <a:blip r:embed=""/>
          <a:stretch/>
        </p:blipFill>
        <p:spPr>
          <a:xfrm>
            <a:off x="5040360" y="1440000"/>
            <a:ext cx="23400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457200" y="428760"/>
            <a:ext cx="822960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RGA GENERAL</a:t>
            </a: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rga General Fraccionad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rga General Unitarizad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RGA A GRA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ranel Sólido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ranel Líquido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RGA PELIGROS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plosiv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as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íquidos inflamabl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ólidos inflamabl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stancias comburentes y peróxidos orgánic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stancias tóxicas y sustancias infeccios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terial radiactiv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stancias corrosiv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stancias y objetos peligrosos vari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tros Tipos de Carg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utomotriz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quinaria pesad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frigerado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alor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En los medios de transporte encontramos los siguien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CAM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BU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Group 2"/>
          <p:cNvGrpSpPr/>
          <p:nvPr/>
        </p:nvGrpSpPr>
        <p:grpSpPr>
          <a:xfrm>
            <a:off x="450720" y="268200"/>
            <a:ext cx="8240760" cy="1157400"/>
            <a:chOff x="450720" y="268200"/>
            <a:chExt cx="8240760" cy="1157400"/>
          </a:xfrm>
        </p:grpSpPr>
        <p:pic>
          <p:nvPicPr>
            <p:cNvPr id="398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4"/>
            <p:cNvSpPr/>
            <p:nvPr/>
          </p:nvSpPr>
          <p:spPr>
            <a:xfrm>
              <a:off x="450720" y="26820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1481040"/>
            <a:ext cx="82296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Carga Seca 53' x 9'6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odo tipo de carga, protege contra el medio ambiente, pero no necesita control de temp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Medidas externa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Largo; 48' 0" Ancho; 8' 6" Alto; 9' 6“ 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Medidas interna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Largo; 47' 6" Ancho; 8' 3" Alto; 8' 10" 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pacidad máxima de carga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34,50 - 3,490 ft</a:t>
            </a:r>
            <a:r>
              <a:rPr b="0" lang="es-CO" sz="18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Peso neto sin carga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56,350 l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2357280" y="2808360"/>
            <a:ext cx="310356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1481040"/>
            <a:ext cx="82296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Carga Seca 48' x 9'6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odo tipo de carga, protege contra el medio ambiente, pero no necesita control de temp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Medidas externa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Largo; 53' 0" Ancho; 8' 6" Alto; 9' 6"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Medidas interna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Largo; 52' 6" Ancho; 8' 3" Alto; 8' 11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pacidad máxima de carga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3,864 ft</a:t>
            </a:r>
            <a:r>
              <a:rPr b="0" lang="es-CO" sz="18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Peso neto sin carga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57,600 l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2571840" y="2786040"/>
            <a:ext cx="2889000" cy="15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Refrige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odo tipo de carga que se requiere control estable de temp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Medidas externa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Largo; 40' 00" Ancho; 8' 00" Alto; 8' 50"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Medidas internas: 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; 37' 17" Ancho; 7' 50" Alto; 7' 18"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pacidad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2,004 ft</a:t>
            </a:r>
            <a:r>
              <a:rPr b="0" lang="es-CO" sz="18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2714760" y="2808360"/>
            <a:ext cx="2746080" cy="140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2T23:23:47Z</dcterms:created>
  <dc:creator>Administrador</dc:creator>
  <dc:description/>
  <dc:language>en-US</dc:language>
  <cp:lastModifiedBy>Administrador</cp:lastModifiedBy>
  <dcterms:modified xsi:type="dcterms:W3CDTF">2011-09-14T00:02:00Z</dcterms:modified>
  <cp:revision>44</cp:revision>
  <dc:subject/>
  <dc:title>Medios de transporte camiones, barcos y medios de seguridad</dc:title>
</cp:coreProperties>
</file>